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CBA-7D9C-4DB0-862E-565B2A70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8201-2F58-4DAD-BEF3-5DD83DC8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770F-BA7B-4329-AF4D-BB093E87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3D9-61D6-4E90-AD49-3FB9FEC9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5773-0341-4DB1-BD6A-EFBA12AA3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AAE4-C1E1-4ED2-8D4B-1D0BA809C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F392-B02B-48FD-97C7-CE92EBB55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4F92-19C9-4D32-91AE-163A3D81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3E7C-A48B-4390-9AD7-3EF47506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3B5-F5D9-4E3E-8BEF-9C57F61F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DBCA-7DFF-4645-9CA9-39F99971F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DD51-7690-43E7-B944-EB80215EE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5877-B8E1-40B9-A39E-D8C9FBA0A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102E-9223-4068-B518-19314CB2F3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CA49-BDBC-48D9-B4F7-DDA289AF2A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F4B5-D4E0-4DFD-BE62-B8F5DEB2C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85BC-1947-41B8-9725-44186D696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6B59-A1C4-4DC5-A359-50900DA56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CF9F-44ED-4ED0-951C-85FEBE50F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AFA5-67C5-4088-B369-349BAF456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5832-C3D3-424E-B9E8-86416E309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EDBF-FDDF-426E-8EA9-6DF922A43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2C503A3C-A221-4E29-8888-09A8ABB04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B2AC4FA0-0578-432C-8CAF-8CD3760A37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ço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aw a form of the verb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the express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ça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w you will use this verb to talk about going places and to express actions that take place in the immediat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07_01_p118a"/>
          <p:cNvPicPr/>
          <p:nvPr/>
        </p:nvPicPr>
        <p:blipFill>
          <a:blip r:embed="rId1"/>
          <a:stretch/>
        </p:blipFill>
        <p:spPr>
          <a:xfrm>
            <a:off x="1143000" y="3809880"/>
            <a:ext cx="69231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7D5FB5D1-475E-4B91-ADC9-74C3439C41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rregular. Only th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v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s resemble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07_01_p118b"/>
          <p:cNvPicPr/>
          <p:nvPr/>
        </p:nvPicPr>
        <p:blipFill>
          <a:blip r:embed="rId1"/>
          <a:stretch/>
        </p:blipFill>
        <p:spPr>
          <a:xfrm>
            <a:off x="1447920" y="2743200"/>
            <a:ext cx="62071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74D73CA1-1C34-4E1E-B4D9-A6C81E8ADC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7_01_p118d"/>
          <p:cNvPicPr/>
          <p:nvPr/>
        </p:nvPicPr>
        <p:blipFill>
          <a:blip r:embed="rId1"/>
          <a:stretch/>
        </p:blipFill>
        <p:spPr>
          <a:xfrm>
            <a:off x="1905120" y="4257720"/>
            <a:ext cx="5333760" cy="2219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an also be used with another verb to tell what is going to happen. This construction is called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le futur proc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mmediate futur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. Conjugate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the present tense and place the other verb’s infinitive form directly after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07_01_p118c"/>
          <p:cNvPicPr/>
          <p:nvPr/>
        </p:nvPicPr>
        <p:blipFill>
          <a:blip r:embed="rId2"/>
          <a:stretch/>
        </p:blipFill>
        <p:spPr>
          <a:xfrm>
            <a:off x="1752480" y="3191040"/>
            <a:ext cx="5442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D6A90C9D-F47C-4933-AE88-4CCE52BFD5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gate an expression 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 futur pro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lac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ne/n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the conjugated form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07_01_p118e"/>
          <p:cNvPicPr/>
          <p:nvPr/>
        </p:nvPicPr>
        <p:blipFill>
          <a:blip r:embed="rId1"/>
          <a:stretch/>
        </p:blipFill>
        <p:spPr>
          <a:xfrm>
            <a:off x="914400" y="2743200"/>
            <a:ext cx="72010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31F43C45-9C80-4ADA-ACD7-B25683DADE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construction can be used with the infinitive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ing to 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7_01_p118f"/>
          <p:cNvPicPr/>
          <p:nvPr/>
        </p:nvPicPr>
        <p:blipFill>
          <a:blip r:embed="rId1"/>
          <a:stretch/>
        </p:blipFill>
        <p:spPr>
          <a:xfrm>
            <a:off x="914400" y="2743200"/>
            <a:ext cx="71042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3C776A08-2076-4A77-985C-DBD38925B5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 preposition 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cts with the definite article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t does not contract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07_01_p119a"/>
          <p:cNvPicPr/>
          <p:nvPr/>
        </p:nvPicPr>
        <p:blipFill>
          <a:blip r:embed="rId1"/>
          <a:stretch/>
        </p:blipFill>
        <p:spPr>
          <a:xfrm>
            <a:off x="1371600" y="3200400"/>
            <a:ext cx="6221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DA291504-3C26-46D5-9ED9-A129C020E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 preposition 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à 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anslated in various ways in Englis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t often indicates a physical location, as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 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habiter 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owever, it can have other meanings depending on the verb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7_01_p119b"/>
          <p:cNvPicPr/>
          <p:nvPr/>
        </p:nvPicPr>
        <p:blipFill>
          <a:blip r:embed="rId1"/>
          <a:stretch/>
        </p:blipFill>
        <p:spPr>
          <a:xfrm>
            <a:off x="1143000" y="3733920"/>
            <a:ext cx="676260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B086E2E9-E379-4337-B844-49FD630041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The preposition 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à 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a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en learning a place name in French, learn the preposition that accompanies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07_01_p119c"/>
          <p:cNvPicPr/>
          <p:nvPr/>
        </p:nvPicPr>
        <p:blipFill>
          <a:blip r:embed="rId1"/>
          <a:stretch/>
        </p:blipFill>
        <p:spPr>
          <a:xfrm>
            <a:off x="1219320" y="3429000"/>
            <a:ext cx="67053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E7D3A5C9-B812-4FE1-8983-CA37B35A89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essayez"/>
          <p:cNvPicPr/>
          <p:nvPr/>
        </p:nvPicPr>
        <p:blipFill>
          <a:blip r:embed="rId1"/>
          <a:stretch/>
        </p:blipFill>
        <p:spPr>
          <a:xfrm>
            <a:off x="547560" y="1447920"/>
            <a:ext cx="80488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685800" y="2286000"/>
          <a:ext cx="7772400" cy="35971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64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ça ______________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______ à la piscine pour nage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______________ au centre-vill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______ bavarder au café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______ aller au restaurant ce soir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______________ aller à l’église dimanche mati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oir, je ______________ danser en boît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ne ____________ pas passer par l’épicerie cet après-midi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44"/>
          <p:cNvSpPr/>
          <p:nvPr/>
        </p:nvSpPr>
        <p:spPr>
          <a:xfrm>
            <a:off x="893880" y="160020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tilisez la forme correcte du verbe all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4"/>
          <p:cNvSpPr/>
          <p:nvPr/>
        </p:nvSpPr>
        <p:spPr>
          <a:xfrm>
            <a:off x="3124080" y="228600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19T02:33:50Z</dcterms:modified>
  <cp:revision>30</cp:revision>
  <dc:subject>Structures 7.1</dc:subject>
  <dc:title>PROMENADES</dc:title>
</cp:coreProperties>
</file>